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5CC8-3EDF-41EC-AD4E-45C34B50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C69F-EB3C-4D6A-89D7-C094DE0B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2D9-5EC3-4983-A5ED-84A8F07A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F12D-1B1B-47CD-A42F-643A27B6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F45E-42C5-4F05-B905-9A97E397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8128-EB44-49C0-A0BA-371939A6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D9CE-223D-4484-9468-29124C69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049-5432-4E66-9D10-720D1561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6A35-F26F-4028-A4F0-497CB4BF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4CCF-071C-48CA-943F-21F612EF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FB6A-4061-4442-A70E-491BBFA4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5606-394C-495F-8B07-C138F654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F277-3BEA-4B54-8611-F8C848B07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rstand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Faculty:HolmgrS:Desktop:Understanding_DNA.mov" descr=""/>
          <p:cNvPicPr/>
          <p:nvPr/>
        </p:nvPicPr>
        <p:blipFill>
          <a:blip r:embed="rId1"/>
          <a:stretch/>
        </p:blipFill>
        <p:spPr>
          <a:xfrm>
            <a:off x="609480" y="1906560"/>
            <a:ext cx="784872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2:41:41Z</dcterms:created>
  <dc:creator>NHS NPS</dc:creator>
  <dc:description/>
  <dc:language>en-US</dc:language>
  <cp:lastModifiedBy>NHS NPS</cp:lastModifiedBy>
  <dcterms:modified xsi:type="dcterms:W3CDTF">2012-01-24T12:42:53Z</dcterms:modified>
  <cp:revision>1</cp:revision>
  <dc:subject/>
  <dc:title>DNA</dc:title>
</cp:coreProperties>
</file>